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D11-B090-4F77-89A0-F338AF8A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2CA-4D0E-4A27-BF59-2256D41D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8D7-8A20-44D9-8902-6FAF66BD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5BC-F304-4441-95F6-8CA304D3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65F-8636-4969-B43E-537329BF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6E4-9850-4F55-9785-D73B38DB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B43-5320-4EE7-93D9-2902D2B4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99C-0B9D-42CD-97B8-14A21A3D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E28-84F5-44DC-A5D2-561F2BFF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9EB-48C5-49EA-90A7-BBD251AE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4D4-4D14-496C-880D-34071F67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ABC-640A-455C-8A6A-77B24E99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ECFA-DD0C-4B42-951C-EFEA3597E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tebrate Review Ques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y and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Compare and contrast vertebrates with the invertebrates that you have studied.  How are they alike?  How are they diffe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What is different about the nervous system of vertebr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What does the complete digestive system allow vertebrates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How do we get changes in vertebrate characterist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How is the development of a vertebrate different from the development of invertebr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0:20:06Z</dcterms:created>
  <dc:creator>kmcgrady</dc:creator>
  <dc:description/>
  <dc:language>en-US</dc:language>
  <cp:lastModifiedBy>kmcgrady</cp:lastModifiedBy>
  <dcterms:modified xsi:type="dcterms:W3CDTF">2011-04-20T00:21:02Z</dcterms:modified>
  <cp:revision>1</cp:revision>
  <dc:subject/>
  <dc:title>Vertebrate Review Questions Copy and answer.</dc:title>
</cp:coreProperties>
</file>